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9EB-A96D-461E-875D-89905C41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FE8-A773-4D53-ACD2-FA324265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A77-EC0D-4EE7-977C-F6D55A6E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06F-BA81-4EC6-BC71-E1C8C122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46E3-BDF3-40DF-B16A-9F359C19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EDBF-EE94-47A7-A01B-9E5C321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64E0-AA35-4A20-83AC-31899658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C4C2-3F10-4EE8-ACD8-46D24903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5FFE-95C1-40AF-AD30-021849AF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0243-D29A-4240-A035-56D781D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7C5-CB4C-45F3-8860-1C6FF89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69A8-F452-4E42-B331-40F319A7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CE95-2163-4F05-9CD8-9251E71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396D-E5FB-4958-8364-F351A74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D3A6-B35F-4948-860F-D12E7FCF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5B2A-C83B-4C99-A4E4-A596B7E6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9330-9CE9-43DB-92E6-7FC7DF8E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782-0ED7-422D-AA15-9BE4C382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B99-EE7C-41C5-831C-B732F9EB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962-731A-4034-BDF5-215BD32A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B69-DDD4-48E9-8D59-A687B24E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D84-45B2-40D1-9414-75147432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C28-E3E4-46B0-AA1E-29246CDA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945-0FDA-47DA-8A98-59CF03F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320-509A-4387-9427-5E814B619E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C3F3-4757-4996-B7B5-5CA105C32C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agn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hecimento empírico (a posteriori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hecimento puro (a priori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ízo analítico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ízos sintéticos a posterior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ízos sintético a prior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2:56:05Z</dcterms:created>
  <dc:creator>Cliente</dc:creator>
  <dc:description/>
  <dc:language>en-US</dc:language>
  <cp:lastModifiedBy>Cliente</cp:lastModifiedBy>
  <dcterms:modified xsi:type="dcterms:W3CDTF">2006-05-23T16:51:55Z</dcterms:modified>
  <cp:revision>5</cp:revision>
  <dc:subject/>
  <dc:title>Wagner</dc:title>
</cp:coreProperties>
</file>